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B01-50D3-47EE-9E8D-39EF8537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868F-63E6-442D-BD88-B2ADBA6D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04D-7704-4B4E-91DA-ACCCAD6A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D77-05D6-4F39-A0E7-3FA8171D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BDA6-8CFE-4013-A20B-9470675A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0F06-F452-4F73-B4A4-0C8D7B64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C4F2-078A-4C10-B4E1-65BECA0A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2E21-7CCA-4222-8798-BF2A9FF8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E214-188E-4141-9F49-52633F18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B167-E525-484D-B3AC-4AD2F64F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AD93-6990-42C0-AAFC-95E1BD63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337-F639-4305-BE8C-5B0F74FA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4886-5D0F-431F-A732-08C895A7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09A4-2077-4CFF-8F19-86F71BFB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DC56-ECB4-40DF-93A6-FB208B80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EF06-EDB4-4DF9-B295-4B01438A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9D27-EF78-444D-B4C0-E99121B4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8E97E-493E-4CBA-8895-B1397180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1A0D5-B810-4E70-B011-93C3830C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37C8A-C221-4665-B099-04E58AB0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27AC2-5811-41F2-B15D-6180DD72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9B519-F6C3-4A7E-80C7-FF1D3A84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D547-0CB7-4216-A3B8-C20D9419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97B91-B455-4972-822E-54069F14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9FDC8-6423-40C8-91C6-5CB21093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58666-3F74-430D-91A3-06844686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902C4-27FE-4BA7-B4B7-DEC4B8A8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43604-F03C-48CB-AF20-5F270F61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474E5-6BAD-4860-946F-284F4C85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F414B-B100-44DB-BBB0-7509F84C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F5ED2-00B0-4E93-8BF0-B69E6B51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73B75-4007-4C97-BBF6-47283AAB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B8958-6B15-4C80-A618-2240B992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DB75-D308-49F6-9D8D-F3101C77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9EA92-4F4B-4273-81B7-6D5B5F64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F4541-F04A-41DB-A4AF-C034043C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65F34-6DDB-4EA6-BA6D-A9E4D29C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7EBA0-02A9-4587-9CF5-CEB4480A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DA1F7-9FB8-4CE4-A766-F1763D44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3827B-85A6-4D36-A3F4-F613F18A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28EDF-101D-4B78-922D-133B6DAC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C0CF1-8B4A-4C29-B471-708304A4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AA120-2E93-4D7E-BD4A-1162E78C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F9A9-D3BB-4B99-A8A4-D0EAA05A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4055-49FD-4077-BCEE-3B7084DF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6FCA-DC4D-4E8A-8970-75AC35E2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685-1547-485D-9F89-65BB6B25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E91-B51B-4827-9369-01A81ACC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3E07-AE65-45A2-A2D7-719402DF9A0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CE5B-0D9E-44D9-BA2A-807419EB60C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5DC9-7B89-40D2-8385-02BC678F4E5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802A-6EC6-44D1-93D3-A289EA67CF5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2ahUKEwjvkICho6jcAhUN_KQKHe7-C40QjRx6BAgBEAU&amp;url=https%3A%2F%2Fsciencestruck.com%2Fosmosis-vs-diffusion&amp;psig=AOvVaw1o-C013YNLPFIJhC0duD_v&amp;ust=1531990405491384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s://www.google.rs/url?sa=i&amp;rct=j&amp;q=&amp;esrc=s&amp;source=images&amp;cd=&amp;cad=rja&amp;uact=8&amp;ved=2ahUKEwj5p_DBo6jcAhUtM-wKHWsgBfYQjRx6BAgBEAU&amp;url=https%3A%2F%2Fwww.scientistcindy.com%2Fcell-membranes-and-osmosis.html&amp;psig=AOvVaw1o-C013YNLPFIJhC0duD_v&amp;ust=1531990405491384" TargetMode="External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Title 1" descr=""/>
          <p:cNvPicPr/>
          <p:nvPr/>
        </p:nvPicPr>
        <p:blipFill>
          <a:blip r:embed="rId1"/>
          <a:stretch/>
        </p:blipFill>
        <p:spPr>
          <a:xfrm>
            <a:off x="1249200" y="981000"/>
            <a:ext cx="6199200" cy="17924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357336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0000"/>
                </a:solidFill>
                <a:latin typeface="Constantia"/>
              </a:rPr>
              <a:t>Транспорт молекула кроз ћелијску мембран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Constantia"/>
              </a:rPr>
              <a:t>Транспорт молекула кроз ћелијску мембрану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nstantia"/>
              </a:rPr>
              <a:t>Транспорт </a:t>
            </a:r>
            <a:r>
              <a:rPr b="1" lang="sr-CS" sz="3200" spc="-1" strike="noStrike">
                <a:solidFill>
                  <a:srgbClr val="ff0000"/>
                </a:solidFill>
                <a:latin typeface="Constantia"/>
              </a:rPr>
              <a:t>малих</a:t>
            </a:r>
            <a:r>
              <a:rPr b="0" lang="sr-CS" sz="3200" spc="-1" strike="noStrike">
                <a:solidFill>
                  <a:srgbClr val="000000"/>
                </a:solidFill>
                <a:latin typeface="Constantia"/>
              </a:rPr>
              <a:t> молеку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nstantia"/>
              </a:rPr>
              <a:t>Транспорт </a:t>
            </a:r>
            <a:r>
              <a:rPr b="1" lang="sr-CS" sz="3200" spc="-1" strike="noStrike">
                <a:solidFill>
                  <a:srgbClr val="ff0000"/>
                </a:solidFill>
                <a:latin typeface="Constantia"/>
              </a:rPr>
              <a:t>крупних</a:t>
            </a:r>
            <a:r>
              <a:rPr b="0" lang="sr-CS" sz="3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nstantia"/>
              </a:rPr>
              <a:t>молеку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Constantia"/>
              </a:rPr>
              <a:t>Транспорт </a:t>
            </a:r>
            <a:r>
              <a:rPr b="1" lang="sr-CS" sz="4600" spc="-1" strike="noStrike" u="sng">
                <a:solidFill>
                  <a:srgbClr val="cc0099"/>
                </a:solidFill>
                <a:uFillTx/>
                <a:latin typeface="Constantia"/>
              </a:rPr>
              <a:t>малих</a:t>
            </a:r>
            <a:r>
              <a:rPr b="1" lang="sr-CS" sz="4600" spc="-1" strike="noStrike">
                <a:solidFill>
                  <a:srgbClr val="000000"/>
                </a:solidFill>
                <a:latin typeface="Constantia"/>
              </a:rPr>
              <a:t> молекула</a:t>
            </a:r>
            <a:r>
              <a:rPr b="0" lang="sr-CS" sz="4600" spc="-1" strike="noStrike">
                <a:solidFill>
                  <a:srgbClr val="dbf5f9"/>
                </a:solidFill>
                <a:latin typeface="Constantia"/>
              </a:rPr>
              <a:t> 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 Помоћу </a:t>
            </a:r>
            <a:r>
              <a:rPr b="0" lang="sr-CS" sz="2800" spc="-1" strike="noStrike">
                <a:solidFill>
                  <a:srgbClr val="0000ff"/>
                </a:solidFill>
                <a:latin typeface="Constantia"/>
              </a:rPr>
              <a:t>протеина носач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 Кроз </a:t>
            </a:r>
            <a:r>
              <a:rPr b="0" lang="sr-CS" sz="2800" spc="-1" strike="noStrike">
                <a:solidFill>
                  <a:srgbClr val="0000ff"/>
                </a:solidFill>
                <a:latin typeface="Constantia"/>
              </a:rPr>
              <a:t>протеинске кана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Може да буд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99"/>
                </a:solidFill>
                <a:latin typeface="Constantia"/>
              </a:rPr>
              <a:t>Пасивни транспорт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(проста дифузија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олакшана дифузија)</a:t>
            </a:r>
            <a:r>
              <a:rPr b="0" lang="sr-Latn-R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Latn-R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onstantia"/>
              </a:rPr>
              <a:t>без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утрошка енерг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99"/>
                </a:solidFill>
                <a:latin typeface="Constantia"/>
              </a:rPr>
              <a:t>Активни транспорт</a:t>
            </a:r>
            <a:r>
              <a:rPr b="1" lang="sr-Latn-RS" sz="2800" spc="-1" strike="noStrike">
                <a:solidFill>
                  <a:srgbClr val="cc0099"/>
                </a:solidFill>
                <a:latin typeface="Constantia"/>
              </a:rPr>
              <a:t> </a:t>
            </a:r>
            <a:r>
              <a:rPr b="1" lang="sr-CS" sz="2800" spc="-1" strike="noStrike">
                <a:solidFill>
                  <a:srgbClr val="cc0099"/>
                </a:solidFill>
                <a:latin typeface="Constantia"/>
              </a:rPr>
              <a:t>-</a:t>
            </a:r>
            <a:r>
              <a:rPr b="1" lang="sr-Latn-RS" sz="2800" spc="-1" strike="noStrike">
                <a:solidFill>
                  <a:srgbClr val="cc0099"/>
                </a:solidFill>
                <a:latin typeface="Constanti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onstantia"/>
              </a:rPr>
              <a:t>уз</a:t>
            </a:r>
            <a:r>
              <a:rPr b="1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утрошак енерг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Constantia"/>
              </a:rPr>
              <a:t>Дифузиј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23" name="Picture 3" descr="300px-400px-Diffusion"/>
          <p:cNvPicPr/>
          <p:nvPr/>
        </p:nvPicPr>
        <p:blipFill>
          <a:blip r:embed="rId1">
            <a:lum contrast="60000"/>
          </a:blip>
          <a:srcRect l="0" t="0" r="0" b="19612"/>
          <a:stretch/>
        </p:blipFill>
        <p:spPr>
          <a:xfrm>
            <a:off x="0" y="2057400"/>
            <a:ext cx="4648320" cy="37339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Транспорт кроз мембрану- </a:t>
            </a:r>
            <a:r>
              <a:rPr b="0" lang="sr-CS" sz="2400" spc="-1" strike="noStrike">
                <a:solidFill>
                  <a:srgbClr val="0000ff"/>
                </a:solidFill>
                <a:latin typeface="Constantia"/>
              </a:rPr>
              <a:t>низ градијент конц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.,  док се не изједначе концентр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ff"/>
                </a:solidFill>
                <a:latin typeface="Constantia"/>
              </a:rPr>
              <a:t>Материје растворљиве у липидима, гасови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Посебан облик је </a:t>
            </a:r>
            <a:r>
              <a:rPr b="1" lang="sr-CS" sz="2400" spc="-1" strike="noStrike">
                <a:solidFill>
                  <a:srgbClr val="cc0099"/>
                </a:solidFill>
                <a:latin typeface="Constantia"/>
              </a:rPr>
              <a:t>осмоз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Constantia"/>
              </a:rPr>
              <a:t>Осмоз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038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Дифузија </a:t>
            </a:r>
            <a:r>
              <a:rPr b="0" lang="sr-CS" sz="2400" spc="-1" strike="noStrike">
                <a:solidFill>
                  <a:srgbClr val="0000ff"/>
                </a:solidFill>
                <a:latin typeface="Constantia"/>
              </a:rPr>
              <a:t>воде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кроз мембра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ff"/>
                </a:solidFill>
                <a:latin typeface="Constantia"/>
              </a:rPr>
              <a:t>Супротно градијенту концентрације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(од мање ка већој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Притисак који може да спречи осмозу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cc0099"/>
                </a:solidFill>
                <a:latin typeface="Constantia"/>
              </a:rPr>
              <a:t>осмотски притис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Раствор са већом конц него што је унутрашњост ћелије</a:t>
            </a:r>
            <a:r>
              <a:rPr b="0" lang="sr-Latn-R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cc0099"/>
                </a:solidFill>
                <a:latin typeface="Constantia"/>
              </a:rPr>
              <a:t>-</a:t>
            </a:r>
            <a:r>
              <a:rPr b="0" lang="sr-Latn-RS" sz="2400" spc="-1" strike="noStrike">
                <a:solidFill>
                  <a:srgbClr val="cc0099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cc0099"/>
                </a:solidFill>
                <a:latin typeface="Constantia"/>
              </a:rPr>
              <a:t>хипертонич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6" descr="Резултат слика за osmosis im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333360"/>
            <a:ext cx="3932280" cy="3930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Резултат слика за osmosis imag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280040"/>
            <a:ext cx="38685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Constantia"/>
              </a:rPr>
              <a:t>Олакшана дифузиј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300" spc="-1" strike="noStrike">
                <a:solidFill>
                  <a:srgbClr val="ffffff"/>
                </a:solidFill>
                <a:latin typeface="Constantia"/>
              </a:rPr>
              <a:t>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Траснпорт молекула кроз мембрану </a:t>
            </a:r>
            <a:r>
              <a:rPr b="0" lang="sr-CS" sz="2400" spc="-1" strike="noStrike">
                <a:solidFill>
                  <a:srgbClr val="0000ff"/>
                </a:solidFill>
                <a:latin typeface="Constantia"/>
              </a:rPr>
              <a:t>помоћу протеина носача, </a:t>
            </a:r>
            <a:r>
              <a:rPr b="1" lang="sr-CS" sz="2400" spc="-1" strike="noStrike" u="sng">
                <a:solidFill>
                  <a:srgbClr val="0000ff"/>
                </a:solidFill>
                <a:uFillTx/>
                <a:latin typeface="Constantia"/>
              </a:rPr>
              <a:t>низ </a:t>
            </a:r>
            <a:r>
              <a:rPr b="0" lang="sr-CS" sz="2400" spc="-1" strike="noStrike">
                <a:solidFill>
                  <a:srgbClr val="0000ff"/>
                </a:solidFill>
                <a:latin typeface="Constantia"/>
              </a:rPr>
              <a:t>градијент концентрациј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400" spc="-1" strike="noStrike">
                <a:solidFill>
                  <a:srgbClr val="cc0099"/>
                </a:solidFill>
                <a:latin typeface="Constantia"/>
              </a:rPr>
              <a:t>Глук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Регулисана хормонима (</a:t>
            </a:r>
            <a:r>
              <a:rPr b="0" lang="sr-CS" sz="2400" spc="-1" strike="noStrike">
                <a:solidFill>
                  <a:srgbClr val="cc0099"/>
                </a:solidFill>
                <a:latin typeface="Constantia"/>
              </a:rPr>
              <a:t>глукоза-инсулин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6" descr="Резултат слика за olaksana difuzija images"/>
          <p:cNvPicPr/>
          <p:nvPr/>
        </p:nvPicPr>
        <p:blipFill>
          <a:blip r:embed="rId1"/>
          <a:stretch/>
        </p:blipFill>
        <p:spPr>
          <a:xfrm>
            <a:off x="1908000" y="4508640"/>
            <a:ext cx="4392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5000" spc="-1" strike="noStrike">
                <a:solidFill>
                  <a:srgbClr val="000000"/>
                </a:solidFill>
                <a:latin typeface="Constantia"/>
              </a:rPr>
              <a:t>Активни транспорт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Из средине са мањом у средину са већом концентрацију (</a:t>
            </a:r>
            <a:r>
              <a:rPr b="1" lang="sr-CS" sz="2800" spc="-1" strike="noStrike" u="sng">
                <a:solidFill>
                  <a:srgbClr val="0f6fc6"/>
                </a:solidFill>
                <a:uFillTx/>
                <a:latin typeface="Constantia"/>
              </a:rPr>
              <a:t>уз</a:t>
            </a:r>
            <a:r>
              <a:rPr b="0" lang="sr-CS" sz="2800" spc="-1" strike="noStrike" u="sng">
                <a:solidFill>
                  <a:srgbClr val="0f6fc6"/>
                </a:solidFill>
                <a:uFillTx/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градијент или </a:t>
            </a:r>
            <a:r>
              <a:rPr b="1" lang="sr-CS" sz="2800" spc="-1" strike="noStrike" u="sng">
                <a:solidFill>
                  <a:srgbClr val="0f6fc6"/>
                </a:solidFill>
                <a:uFillTx/>
                <a:latin typeface="Constantia"/>
              </a:rPr>
              <a:t>супротно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градијенту концентр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Помоћу протеина носач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ff"/>
                </a:solidFill>
                <a:latin typeface="Constantia"/>
              </a:rPr>
              <a:t>Уз потрошњу енергије (АТР</a:t>
            </a: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Constantia"/>
              </a:rPr>
              <a:t>Натријум-калијум пумп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35" name="Picture 6" descr="328px-C8x15NaK-pump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143000" y="1523880"/>
            <a:ext cx="8001000" cy="53341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2"/>
          <p:cNvSpPr/>
          <p:nvPr/>
        </p:nvSpPr>
        <p:spPr>
          <a:xfrm>
            <a:off x="7391520" y="2286000"/>
            <a:ext cx="220968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66"/>
                </a:solidFill>
                <a:latin typeface="Arial Black"/>
              </a:rPr>
              <a:t>Испумпава  се </a:t>
            </a:r>
            <a:r>
              <a:rPr b="0" lang="sr-Latn-CS" sz="1800" spc="-1" strike="noStrike">
                <a:solidFill>
                  <a:srgbClr val="cc0066"/>
                </a:solidFill>
                <a:latin typeface="Arial Black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3886200" y="4876920"/>
            <a:ext cx="220968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66"/>
                </a:solidFill>
                <a:latin typeface="Arial Black"/>
              </a:rPr>
              <a:t>Више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7315200" y="5638680"/>
            <a:ext cx="220968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66"/>
                </a:solidFill>
                <a:latin typeface="Arial Black"/>
              </a:rPr>
              <a:t>Упумпава се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3352680" y="3809880"/>
            <a:ext cx="221004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66"/>
                </a:solidFill>
                <a:latin typeface="Arial Black"/>
              </a:rPr>
              <a:t>Мало </a:t>
            </a:r>
            <a:r>
              <a:rPr b="0" lang="sr-Latn-CS" sz="1800" spc="-1" strike="noStrike">
                <a:solidFill>
                  <a:srgbClr val="cc0066"/>
                </a:solidFill>
                <a:latin typeface="Arial Black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838080" y="2590920"/>
            <a:ext cx="221004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66"/>
                </a:solidFill>
                <a:latin typeface="Arial Black"/>
              </a:rPr>
              <a:t>Више </a:t>
            </a:r>
            <a:r>
              <a:rPr b="0" lang="sr-Latn-CS" sz="1800" spc="-1" strike="noStrike">
                <a:solidFill>
                  <a:srgbClr val="cc0066"/>
                </a:solidFill>
                <a:latin typeface="Arial Black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380880" y="4114800"/>
            <a:ext cx="221004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66"/>
                </a:solidFill>
                <a:latin typeface="Arial Black"/>
              </a:rPr>
              <a:t>Мало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1600200" y="1600200"/>
            <a:ext cx="2209680" cy="6426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66"/>
                </a:solidFill>
                <a:latin typeface="Arial Black"/>
              </a:rPr>
              <a:t>Ванћелијска сред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Constantia"/>
              </a:rPr>
              <a:t>Транспорт </a:t>
            </a:r>
            <a:r>
              <a:rPr b="1" i="1" lang="sr-CS" sz="4600" spc="-1" strike="noStrike">
                <a:solidFill>
                  <a:srgbClr val="cc0099"/>
                </a:solidFill>
                <a:latin typeface="Constantia"/>
              </a:rPr>
              <a:t>крупних</a:t>
            </a:r>
            <a:r>
              <a:rPr b="1" i="1" lang="sr-CS" sz="4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CS" sz="4600" spc="-1" strike="noStrike">
                <a:solidFill>
                  <a:srgbClr val="000000"/>
                </a:solidFill>
                <a:latin typeface="Constantia"/>
              </a:rPr>
              <a:t>молекул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Обавља се активним учешћем ћелијске мембран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ff"/>
                </a:solidFill>
                <a:latin typeface="Constantia"/>
              </a:rPr>
              <a:t>Ендоцитоза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sr-CS" sz="2800" spc="-1" strike="noStrike">
                <a:solidFill>
                  <a:srgbClr val="cc0099"/>
                </a:solidFill>
                <a:latin typeface="Constantia"/>
              </a:rPr>
              <a:t>фагоцитоза, пиноцитоза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)-уношење молекула у ћелиј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ff"/>
                </a:solidFill>
                <a:latin typeface="Constantia"/>
              </a:rPr>
              <a:t>Егзоцитоза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– избацивање несварених материја из ћелије у спољашњу средин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191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Constantia"/>
              </a:rPr>
              <a:t>Механизам ендоцитозе  </a:t>
            </a:r>
            <a:br>
              <a:rPr sz="3800"/>
            </a:br>
            <a:r>
              <a:rPr b="1" lang="sr-CS" sz="3800" spc="-1" strike="noStrike">
                <a:solidFill>
                  <a:srgbClr val="000000"/>
                </a:solidFill>
                <a:latin typeface="Constantia"/>
              </a:rPr>
              <a:t> (активно учешће ћел. мембране</a:t>
            </a:r>
            <a:r>
              <a:rPr b="1" lang="sr-CS" sz="3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46" name="Picture 6" descr="Image result for endocitoza i egzocitoza images"/>
          <p:cNvPicPr/>
          <p:nvPr/>
        </p:nvPicPr>
        <p:blipFill>
          <a:blip r:embed="rId1"/>
          <a:stretch/>
        </p:blipFill>
        <p:spPr>
          <a:xfrm>
            <a:off x="826920" y="2644920"/>
            <a:ext cx="3529080" cy="31604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"/>
          <p:cNvSpPr/>
          <p:nvPr/>
        </p:nvSpPr>
        <p:spPr>
          <a:xfrm>
            <a:off x="1547640" y="609300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www.youtube.com/watch?v=sBCDxPvu4F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5219640" y="2793960"/>
            <a:ext cx="3529080" cy="301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nstantia"/>
              </a:rPr>
              <a:t>фагоцит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nstantia"/>
              </a:rPr>
              <a:t>пиноцит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nstantia"/>
              </a:rPr>
              <a:t>ендоцитоза посредована рецептор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Constantia"/>
              </a:rPr>
              <a:t>Механизам егзоцитозе (активно учешће ћел. мембране)</a:t>
            </a: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50" name="Picture 2" descr="Picture"/>
          <p:cNvPicPr/>
          <p:nvPr/>
        </p:nvPicPr>
        <p:blipFill>
          <a:blip r:embed="rId1"/>
          <a:stretch/>
        </p:blipFill>
        <p:spPr>
          <a:xfrm>
            <a:off x="1332000" y="1628640"/>
            <a:ext cx="5688000" cy="41040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1187280" y="587700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www.youtube.com/watch?v=QspmZf_yWy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Constantia"/>
              </a:rPr>
              <a:t>Ћелијска мембран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319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Представља </a:t>
            </a:r>
            <a:r>
              <a:rPr b="0" lang="sr-CS" sz="1800" spc="-1" strike="noStrike">
                <a:solidFill>
                  <a:srgbClr val="645a9e"/>
                </a:solidFill>
                <a:latin typeface="Constantia"/>
              </a:rPr>
              <a:t>комплекс препрека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који одваја ћелију од спољашње среди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1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1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1800" spc="-1" strike="noStrike">
                <a:solidFill>
                  <a:srgbClr val="ff0000"/>
                </a:solidFill>
                <a:latin typeface="Constantia"/>
              </a:rPr>
              <a:t>Флуидно-мозаич</a:t>
            </a:r>
            <a:r>
              <a:rPr b="0" lang="sr-RS" sz="1800" spc="-1" strike="noStrike">
                <a:solidFill>
                  <a:srgbClr val="ff0000"/>
                </a:solidFill>
                <a:latin typeface="Constantia"/>
              </a:rPr>
              <a:t>н</a:t>
            </a:r>
            <a:r>
              <a:rPr b="0" lang="sr-CS" sz="1800" spc="-1" strike="noStrike">
                <a:solidFill>
                  <a:srgbClr val="ff0000"/>
                </a:solidFill>
                <a:latin typeface="Constantia"/>
              </a:rPr>
              <a:t>и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модел грађе</a:t>
            </a:r>
            <a:r>
              <a:rPr b="0" lang="sr-Latn-R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CS" sz="1800" spc="-1" strike="noStrike">
                <a:solidFill>
                  <a:srgbClr val="0070c0"/>
                </a:solidFill>
                <a:latin typeface="Constantia"/>
              </a:rPr>
              <a:t>два слоја фосфолипида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 у које су уроњени </a:t>
            </a:r>
            <a:r>
              <a:rPr b="0" lang="sr-CS" sz="1800" spc="-1" strike="noStrike">
                <a:solidFill>
                  <a:srgbClr val="0070c0"/>
                </a:solidFill>
                <a:latin typeface="Constantia"/>
              </a:rPr>
              <a:t>протеини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1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1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Протеини који излазе на површину ћелије и неки од липидних молекула у спољашњем липидном слоју имају ковалентно везане ланце </a:t>
            </a:r>
            <a:r>
              <a:rPr b="0" lang="sr-CS" sz="1800" spc="-1" strike="noStrike">
                <a:solidFill>
                  <a:srgbClr val="7030a0"/>
                </a:solidFill>
                <a:latin typeface="Constantia"/>
              </a:rPr>
              <a:t>олигосахарида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1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1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Олигосахариди</a:t>
            </a:r>
            <a:r>
              <a:rPr b="0" lang="sr-Latn-R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Latn-R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претпоставља се да имају улогу у ћелијском препознавању и међућелијској комуникациј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celijska membrana"/>
          <p:cNvPicPr/>
          <p:nvPr/>
        </p:nvPicPr>
        <p:blipFill>
          <a:blip r:embed="rId1"/>
          <a:stretch/>
        </p:blipFill>
        <p:spPr>
          <a:xfrm>
            <a:off x="4643280" y="1989000"/>
            <a:ext cx="451836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71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Constantia"/>
              </a:rPr>
              <a:t>Фосфолипиди (структурни  липиди</a:t>
            </a: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Имају 2 дел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f6fc6"/>
                </a:solidFill>
                <a:latin typeface="Constantia"/>
              </a:rPr>
              <a:t>глава</a:t>
            </a:r>
            <a:r>
              <a:rPr b="1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(поларна)-хидрофил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f6fc6"/>
                </a:solidFill>
                <a:latin typeface="Constantia"/>
              </a:rPr>
              <a:t>реп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(неполаран)-хидрофоб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Окренути су хидрофобним деловима једни ка други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ln09a"/>
          <p:cNvPicPr/>
          <p:nvPr/>
        </p:nvPicPr>
        <p:blipFill>
          <a:blip r:embed="rId1"/>
          <a:stretch/>
        </p:blipFill>
        <p:spPr>
          <a:xfrm>
            <a:off x="4267080" y="2286000"/>
            <a:ext cx="4703760" cy="22748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5181480" y="4114800"/>
            <a:ext cx="274320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cc0066"/>
                </a:solidFill>
                <a:latin typeface="Arial Black"/>
              </a:rPr>
              <a:t>Молекул фосфолоп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Constantia"/>
              </a:rPr>
              <a:t>Липиди мембран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Липиди и протеини се непрекидно померај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У мембран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Фосфолипи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Гликолипи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Холестерол (</a:t>
            </a:r>
            <a:r>
              <a:rPr b="1" lang="sr-CS" sz="2800" spc="-1" strike="noStrike">
                <a:solidFill>
                  <a:srgbClr val="ff0000"/>
                </a:solidFill>
                <a:latin typeface="Constantia"/>
              </a:rPr>
              <a:t>немају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прокариот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Constantia"/>
              </a:rPr>
              <a:t>Протеини мембран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Специфични су, одговорни су за </a:t>
            </a:r>
            <a:r>
              <a:rPr b="0" lang="sr-CS" sz="2800" spc="-1" strike="noStrike">
                <a:solidFill>
                  <a:srgbClr val="ff0000"/>
                </a:solidFill>
                <a:latin typeface="Constantia"/>
              </a:rPr>
              <a:t>селективну пропустљивост мембране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На 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66"/>
                </a:solidFill>
                <a:latin typeface="Constantia"/>
              </a:rPr>
              <a:t> </a:t>
            </a:r>
            <a:r>
              <a:rPr b="0" lang="el-GR" sz="2800" spc="-1" strike="noStrike">
                <a:solidFill>
                  <a:srgbClr val="0f6fc6"/>
                </a:solidFill>
                <a:latin typeface="Constantia"/>
              </a:rPr>
              <a:t>α</a:t>
            </a:r>
            <a:r>
              <a:rPr b="0" lang="sr-CS" sz="2800" spc="-1" strike="noStrike">
                <a:solidFill>
                  <a:srgbClr val="0f6fc6"/>
                </a:solidFill>
                <a:latin typeface="Constantia"/>
              </a:rPr>
              <a:t>-глукоза улаз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f6fc6"/>
                </a:solidFill>
                <a:latin typeface="Constantia"/>
              </a:rPr>
              <a:t>β</a:t>
            </a:r>
            <a:r>
              <a:rPr b="0" lang="sr-CS" sz="2800" spc="-1" strike="noStrike">
                <a:solidFill>
                  <a:srgbClr val="0f6fc6"/>
                </a:solidFill>
                <a:latin typeface="Constantia"/>
              </a:rPr>
              <a:t>-глукоза </a:t>
            </a:r>
            <a:r>
              <a:rPr b="1" lang="sr-CS" sz="3600" spc="-1" strike="noStrike">
                <a:solidFill>
                  <a:srgbClr val="0f6fc6"/>
                </a:solidFill>
                <a:latin typeface="Constantia"/>
              </a:rPr>
              <a:t>не</a:t>
            </a:r>
            <a:r>
              <a:rPr b="0" lang="sr-CS" sz="2800" spc="-1" strike="noStrike">
                <a:solidFill>
                  <a:srgbClr val="0f6fc6"/>
                </a:solidFill>
                <a:latin typeface="Constantia"/>
              </a:rPr>
              <a:t> улази у ћелиј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Constantia"/>
              </a:rPr>
              <a:t>Протеини ћел.мембране: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структур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ензи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рецепто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носачи и канали – учествују у транспорту молекула кроз мембра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Constantia"/>
              </a:rPr>
              <a:t>Протеини према месту које заузимају у мембрани су: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sr-C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CS" sz="2800" spc="-1" strike="noStrike">
                <a:solidFill>
                  <a:srgbClr val="0f6fc6"/>
                </a:solidFill>
                <a:latin typeface="Constantia"/>
              </a:rPr>
              <a:t>периферни</a:t>
            </a:r>
            <a:r>
              <a:rPr b="1" lang="en-US" sz="28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f6fc6"/>
                </a:solidFill>
                <a:latin typeface="Constanti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са обе стране мембран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пр. </a:t>
            </a:r>
            <a:r>
              <a:rPr b="1" i="1" lang="sr-CS" sz="2800" spc="-1" strike="noStrike">
                <a:solidFill>
                  <a:srgbClr val="cc0099"/>
                </a:solidFill>
                <a:latin typeface="Constantia"/>
              </a:rPr>
              <a:t>ензими, антигени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(протеини за препознавањ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lang="sr-CS" sz="2800" spc="-1" strike="noStrike">
                <a:solidFill>
                  <a:srgbClr val="0f6fc6"/>
                </a:solidFill>
                <a:latin typeface="Constantia"/>
              </a:rPr>
              <a:t>интегрални (трансмембрански)</a:t>
            </a: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f6fc6"/>
                </a:solidFill>
                <a:latin typeface="Constanti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утопљени у фосфолипидни слој формирају </a:t>
            </a:r>
            <a:r>
              <a:rPr b="1" i="1" lang="sr-CS" sz="2800" spc="-1" strike="noStrike">
                <a:solidFill>
                  <a:srgbClr val="cc0099"/>
                </a:solidFill>
                <a:latin typeface="Constantia"/>
              </a:rPr>
              <a:t>протеинске канале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или </a:t>
            </a:r>
            <a:r>
              <a:rPr b="1" i="1" lang="sr-CS" sz="2800" spc="-1" strike="noStrike">
                <a:solidFill>
                  <a:srgbClr val="cc0099"/>
                </a:solidFill>
                <a:latin typeface="Constantia"/>
              </a:rPr>
              <a:t>поре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протеини носачи. Обично пролазе делом који се обликује као алфа хелик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image1"/>
          <p:cNvPicPr/>
          <p:nvPr/>
        </p:nvPicPr>
        <p:blipFill>
          <a:blip r:embed="rId1"/>
          <a:stretch/>
        </p:blipFill>
        <p:spPr>
          <a:xfrm>
            <a:off x="609480" y="1752480"/>
            <a:ext cx="8077320" cy="45500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5486400" y="1752480"/>
            <a:ext cx="152388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cc0066"/>
                </a:solidFill>
                <a:latin typeface="Arial Black"/>
              </a:rPr>
              <a:t>Гликолип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743200" y="1828800"/>
            <a:ext cx="152388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cc0066"/>
                </a:solidFill>
                <a:latin typeface="Arial Black"/>
              </a:rPr>
              <a:t>Гликопроте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609480" y="1828800"/>
            <a:ext cx="1371600" cy="4590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cc0066"/>
                </a:solidFill>
                <a:latin typeface="Arial Black"/>
              </a:rPr>
              <a:t>Периферни проте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33520" y="5638680"/>
            <a:ext cx="137160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cc0066"/>
                </a:solidFill>
                <a:latin typeface="Arial Black"/>
              </a:rPr>
              <a:t>Холестер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1981080" y="5791320"/>
            <a:ext cx="152424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cc0066"/>
                </a:solidFill>
                <a:latin typeface="Arial Black"/>
              </a:rPr>
              <a:t>Фосфолипи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3657600" y="5638680"/>
            <a:ext cx="1752480" cy="4590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cc0066"/>
                </a:solidFill>
                <a:latin typeface="Arial Black"/>
              </a:rPr>
              <a:t>Интегрални проте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5562720" y="5638680"/>
            <a:ext cx="1371600" cy="4590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cc0066"/>
                </a:solidFill>
                <a:latin typeface="Arial Black"/>
              </a:rPr>
              <a:t>Протеински ка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7010280" y="5638680"/>
            <a:ext cx="137160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cc0066"/>
                </a:solidFill>
                <a:latin typeface="Arial Black"/>
              </a:rPr>
              <a:t>Алфа хелик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9600" y="404280"/>
            <a:ext cx="8229600" cy="17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nstantia"/>
              </a:rPr>
              <a:t>Протеини на спољашњој страни мембране често имају угљене хидрате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3600" spc="-1" strike="noStrike">
                <a:solidFill>
                  <a:srgbClr val="0f6fc6"/>
                </a:solidFill>
                <a:latin typeface="Constantia"/>
              </a:rPr>
              <a:t>гликокаликс.</a:t>
            </a:r>
            <a:r>
              <a:rPr b="0" lang="sr-CS" sz="4600" spc="-1" strike="noStrike">
                <a:solidFill>
                  <a:srgbClr val="dbf5f9"/>
                </a:solidFill>
                <a:latin typeface="Constantia"/>
              </a:rPr>
              <a:t> 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9600" y="2276640"/>
            <a:ext cx="822960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Функционишу као  </a:t>
            </a:r>
            <a:r>
              <a:rPr b="1" lang="sr-CS" sz="2800" spc="-1" strike="noStrike">
                <a:solidFill>
                  <a:srgbClr val="cc0099"/>
                </a:solidFill>
                <a:latin typeface="Constantia"/>
              </a:rPr>
              <a:t>антигени. </a:t>
            </a:r>
            <a:r>
              <a:rPr b="0" lang="sr-CS" sz="2800" spc="-1" strike="noStrike">
                <a:solidFill>
                  <a:srgbClr val="cc0099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Пример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крвне групе А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O 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система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А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крвна група има оба антигена, а О крвна група нема НИЈЕД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7" descr="memb_protein_A"/>
          <p:cNvPicPr/>
          <p:nvPr/>
        </p:nvPicPr>
        <p:blipFill>
          <a:blip r:embed="rId1"/>
          <a:srcRect l="0" t="19921" r="0" b="0"/>
          <a:stretch/>
        </p:blipFill>
        <p:spPr>
          <a:xfrm>
            <a:off x="1692360" y="5083200"/>
            <a:ext cx="2732040" cy="1749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0"/>
          <p:cNvSpPr/>
          <p:nvPr/>
        </p:nvSpPr>
        <p:spPr>
          <a:xfrm>
            <a:off x="1838160" y="6213600"/>
            <a:ext cx="24386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cc0066"/>
                </a:solidFill>
                <a:latin typeface="Arial Black"/>
              </a:rPr>
              <a:t>А антиген</a:t>
            </a:r>
            <a:r>
              <a:rPr b="0" lang="sr-CS" sz="1200" spc="-1" strike="noStrike">
                <a:solidFill>
                  <a:srgbClr val="cc0066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memb_protein_B"/>
          <p:cNvPicPr/>
          <p:nvPr/>
        </p:nvPicPr>
        <p:blipFill>
          <a:blip r:embed="rId2"/>
          <a:srcRect l="0" t="18031" r="0" b="0"/>
          <a:stretch/>
        </p:blipFill>
        <p:spPr>
          <a:xfrm>
            <a:off x="5076720" y="5054760"/>
            <a:ext cx="2683080" cy="1760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1"/>
          <p:cNvSpPr/>
          <p:nvPr/>
        </p:nvSpPr>
        <p:spPr>
          <a:xfrm>
            <a:off x="5199120" y="6213600"/>
            <a:ext cx="243828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 Black"/>
              </a:rPr>
              <a:t>B </a:t>
            </a:r>
            <a:r>
              <a:rPr b="0" lang="sr-CS" sz="1600" spc="-1" strike="noStrike">
                <a:solidFill>
                  <a:srgbClr val="cc0066"/>
                </a:solidFill>
                <a:latin typeface="Arial Black"/>
              </a:rPr>
              <a:t>антиг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Ryzen</cp:lastModifiedBy>
  <dcterms:modified xsi:type="dcterms:W3CDTF">2022-08-22T09:32:12Z</dcterms:modified>
  <cp:revision>143</cp:revision>
  <dc:subject/>
  <dc:title>MUTACIJE GENA</dc:title>
</cp:coreProperties>
</file>